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094413" cy="8794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53352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5335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 txBox="1"/>
          <p:nvPr/>
        </p:nvSpPr>
        <p:spPr>
          <a:xfrm>
            <a:off x="8353440" y="6540480"/>
            <a:ext cx="714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理学院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7924680" y="6553080"/>
            <a:ext cx="381240" cy="228600"/>
          </a:xfrm>
          <a:custGeom>
            <a:avLst/>
            <a:gdLst>
              <a:gd name="textAreaLeft" fmla="*/ 14760 w 381240"/>
              <a:gd name="textAreaRight" fmla="*/ 366480 w 3812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0994" y="3794"/>
                </a:moveTo>
                <a:lnTo>
                  <a:pt x="25006" y="10800"/>
                </a:lnTo>
                <a:lnTo>
                  <a:pt x="10994" y="17806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467480" y="6553080"/>
            <a:ext cx="381240" cy="228600"/>
          </a:xfrm>
          <a:custGeom>
            <a:avLst/>
            <a:gdLst>
              <a:gd name="textAreaLeft" fmla="*/ 14760 w 381240"/>
              <a:gd name="textAreaRight" fmla="*/ 366480 w 3812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0994" y="10800"/>
                </a:moveTo>
                <a:lnTo>
                  <a:pt x="25006" y="3794"/>
                </a:lnTo>
                <a:lnTo>
                  <a:pt x="25006" y="17806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260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黑体"/>
                <a:ea typeface="黑体"/>
              </a:rPr>
              <a:t>§2 </a:t>
            </a:r>
            <a:r>
              <a:rPr b="1" lang="zh-CN" sz="3600" spc="-1" strike="noStrike">
                <a:solidFill>
                  <a:srgbClr val="333300"/>
                </a:solidFill>
                <a:latin typeface="黑体"/>
                <a:ea typeface="黑体"/>
              </a:rPr>
              <a:t>热传导方程与定解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197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热传导方程的建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19162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如果物体内各点的温度不同，就有热量从温度较高的地方流向温度较低的地方，这种现象就是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热传导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42900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又如，如果溶液中各点的浓度不同，就有分子从浓度较高的地方流向浓度较低的地方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458136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凡是由于物理量的密度不同而产生的运动，通称为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扩散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在数学上，描述热传导规律和扩散规律的是同一种方程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04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定解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3573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1818"/>
                </a:solidFill>
                <a:latin typeface="宋体"/>
              </a:rPr>
              <a:t>1 </a:t>
            </a:r>
            <a:r>
              <a:rPr b="1" lang="zh-CN" sz="2800" spc="-1" strike="noStrike">
                <a:solidFill>
                  <a:srgbClr val="cc1818"/>
                </a:solidFill>
                <a:latin typeface="宋体"/>
              </a:rPr>
              <a:t>初始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981000"/>
            <a:ext cx="867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对所考察的热传导过程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仅仅知道温度所满足的方程是远远不够的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还需要知道物体在“初始”时刻的温度分布和物体在边界上的温度状况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或热交换状况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). 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这样才能较全面考察物体的热传导过程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也便于研究物体热传导变化情况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221000"/>
                <a:ext cx="5943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表明开始时刻物体温度的分布情况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744560" y="4797360"/>
                <a:ext cx="38480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804000" y="4869000"/>
                <a:ext cx="6094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084320" y="5445000"/>
                <a:ext cx="41529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中</m:t>
                    </m:r>
                    <m:r>
                      <m:t xml:space="preserve"> 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为已知函数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219640" y="5445000"/>
                <a:ext cx="33019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表示在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时物体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68360" y="6021360"/>
                <a:ext cx="2336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部温度的分布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549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1818"/>
                </a:solidFill>
                <a:latin typeface="宋体"/>
              </a:rPr>
              <a:t>2 </a:t>
            </a:r>
            <a:r>
              <a:rPr b="1" lang="zh-CN" sz="2800" spc="-1" strike="noStrike">
                <a:solidFill>
                  <a:srgbClr val="cc1818"/>
                </a:solidFill>
                <a:latin typeface="宋体"/>
              </a:rPr>
              <a:t>边界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187280" y="1268280"/>
                <a:ext cx="63248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物理量在系统边界上所满足的物理条件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1187280" y="1916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边界条件分三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256536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类边界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887400" y="3284640"/>
                <a:ext cx="53402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直接给出物理量在边界上的数值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187280" y="3932280"/>
                <a:ext cx="4102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设物体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边界曲面为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364000" y="3932280"/>
                <a:ext cx="33195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已知物体表面温度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68360" y="4508640"/>
                <a:ext cx="18795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411280" y="4508640"/>
                <a:ext cx="4465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则第一类边界条件可表示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403280" y="5084640"/>
                <a:ext cx="38988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187280" y="5805360"/>
                <a:ext cx="18799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732720" y="5156280"/>
                <a:ext cx="5968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635280" y="5734080"/>
                <a:ext cx="1397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称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002200" y="5732640"/>
                <a:ext cx="26542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第一类边界条件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68360" y="62064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类边界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413000"/>
                <a:ext cx="59436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给定未知量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在边界上的法向导数值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258920" y="2133720"/>
                <a:ext cx="5184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已知物体表面上各点的热流量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6443640" y="2133720"/>
                <a:ext cx="21718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即物体表面上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61880" y="2714760"/>
                <a:ext cx="66801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单位时间内流过单位面积的热量是已知的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236000" y="2708280"/>
                <a:ext cx="1422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由傅里叶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68360" y="3284640"/>
                <a:ext cx="21715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实验定律可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411280" y="3716280"/>
                <a:ext cx="17272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332000" y="4581360"/>
                <a:ext cx="1422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由此可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619280" y="5157720"/>
                <a:ext cx="29462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084720" y="5445000"/>
                <a:ext cx="538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258920" y="260280"/>
                <a:ext cx="496872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中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是已知函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258920" y="1197000"/>
                <a:ext cx="876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特别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195640" y="1197000"/>
                <a:ext cx="5400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若物体表面上各点的热流量为零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667640" y="1197000"/>
                <a:ext cx="7365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则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39640" y="1844640"/>
                <a:ext cx="2664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绝热性边界条件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340000" y="2421000"/>
                <a:ext cx="14097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109520" y="3290760"/>
                <a:ext cx="5613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称这类边界条件为第二类边界条件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757840" y="2571840"/>
                <a:ext cx="1104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绝热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250920" y="3789360"/>
            <a:ext cx="8569080" cy="155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      “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绝热过程是系统在和外界无热量交换的条件下进行的过程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用绝热壁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或绝能壁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)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把系统和外界隔开就可以实现这种过程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实际上没有理想的隔热壁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因此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用这种方法只能实现近似的绝热过程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52360" y="54936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类边界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95280" y="1268280"/>
                <a:ext cx="81025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给出边界上未知函数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及其法向导数间的线性关系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24000" y="2060640"/>
            <a:ext cx="8424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果物体的内部和周围的介质通过边界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有热量交换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以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表示和物体接触处的介质温度，这时由于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zh-CN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与物体表面温度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往往并不相同，这样在物体表面处与周围介质就产生热交换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95280" y="0"/>
                <a:ext cx="8175600" cy="20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由热传导中的牛顿实验定律：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物体从一介质流到另一介质的热量与两介质间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的温度差成正比，即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其中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t xml:space="preserve">是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两介质间的热交换系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187280" y="3933720"/>
                <a:ext cx="73454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现在物体内部作一无限贴近它的表面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闭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95280" y="4508640"/>
                <a:ext cx="901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面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403280" y="4508640"/>
                <a:ext cx="4813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由于在物体表面热量不能积累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300720" y="4508640"/>
                <a:ext cx="889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因此</m:t>
                    </m:r>
                    <m:r>
                      <m:t xml:space="preserve"> 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236000" y="4508640"/>
                <a:ext cx="14983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在曲面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95280" y="5084640"/>
                <a:ext cx="5994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上的热流量应等于表面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上的热流量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443640" y="5084640"/>
                <a:ext cx="2286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通过曲面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95280" y="5661000"/>
                <a:ext cx="1079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热量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771640" y="5589720"/>
                <a:ext cx="2781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84360" y="476280"/>
                <a:ext cx="3975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通过物体表面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热量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124000" y="1052640"/>
                <a:ext cx="30225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476360" y="1700280"/>
                <a:ext cx="25020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由此建立关系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476360" y="2205000"/>
                <a:ext cx="4419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755640" y="3357720"/>
                <a:ext cx="343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763640" y="3141720"/>
                <a:ext cx="2438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u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h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332000" y="4149720"/>
                <a:ext cx="334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由于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和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都是正数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716360" y="4149720"/>
                <a:ext cx="3743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因此这种边界条件可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11280" y="4724280"/>
                <a:ext cx="7365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写成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692360" y="5084640"/>
                <a:ext cx="38862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u</m:t>
                        </m:r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164360" y="5300640"/>
                <a:ext cx="6094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39640" y="907920"/>
                <a:ext cx="56008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中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及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均为已知函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58920" y="1700280"/>
                <a:ext cx="3024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这种边界条件称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014800" y="0"/>
                <a:ext cx="41292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u</m:t>
                        </m:r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284720" y="1700280"/>
                <a:ext cx="2705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第三类边界条件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258920" y="2492280"/>
                <a:ext cx="32130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当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时</m:t>
                    </m:r>
                    <m:r>
                      <m:t xml:space="preserve"> 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572000" y="2492280"/>
                <a:ext cx="34416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称为非齐次边界条件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11280" y="3213000"/>
                <a:ext cx="39621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否则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称为齐次边界条件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250920" y="3776760"/>
            <a:ext cx="8713800" cy="9471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热传导方程的建立基于能量守恒和热传导两条基本物理定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像气体扩散、杂质在气体或液体中扩散这些物理过程，其机理与热传导相似，都是由浓度的不均匀引起不同物质分子的位置交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取适当的未知函数，导出的方程与热传导方程有相同形式，因此也称热传导方程为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扩散方程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116000" y="260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黑体"/>
                <a:ea typeface="黑体"/>
              </a:rPr>
              <a:t>§3 </a:t>
            </a:r>
            <a:r>
              <a:rPr b="1" lang="zh-CN" sz="3600" spc="-1" strike="noStrike">
                <a:solidFill>
                  <a:srgbClr val="333300"/>
                </a:solidFill>
                <a:latin typeface="黑体"/>
                <a:ea typeface="黑体"/>
              </a:rPr>
              <a:t>拉普拉斯方程与定解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00" y="119700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前面所讨论的波动问题和热传导问题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都是随着时间的变化而变化的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.—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称为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发展方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4000" y="34290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332000" y="2565360"/>
                <a:ext cx="3497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当所研究的物理现象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716360" y="2565360"/>
                <a:ext cx="41054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如振动、热传导、扩散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39640" y="3213000"/>
                <a:ext cx="5079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116000" y="3213000"/>
                <a:ext cx="38098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达到稳定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稳恒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状态时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932360" y="3213000"/>
                <a:ext cx="37432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则所考察的物理量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39640" y="3860640"/>
                <a:ext cx="58881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看作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不随时间而变化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6516720" y="3645000"/>
                <a:ext cx="2019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此时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39640" y="4508640"/>
                <a:ext cx="81360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从而得不随时间变化的函数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所满足的方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195640" y="5084640"/>
                <a:ext cx="28954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7236000" y="5300640"/>
                <a:ext cx="419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700360" y="6165720"/>
                <a:ext cx="29084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三维拉普拉斯方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651640" y="6165720"/>
                <a:ext cx="1800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调和方程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0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5280" y="6922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调和函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24000" y="69228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凡具有二阶连续偏导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满足拉普拉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13413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程的函数称为调和函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749160" y="2066760"/>
                <a:ext cx="48895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如，考察一个有源的稳定热场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651640" y="2060640"/>
                <a:ext cx="27367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可得到下列方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908000" y="2708280"/>
                <a:ext cx="43182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7380360" y="2997360"/>
                <a:ext cx="4572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11280" y="4076640"/>
                <a:ext cx="7239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中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616040" y="3860640"/>
                <a:ext cx="35942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233360" y="4948200"/>
                <a:ext cx="46101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非齐次拉普拉斯方程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称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5867280" y="4941720"/>
                <a:ext cx="16131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泊松方程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187280" y="5589720"/>
                <a:ext cx="59184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方程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通常表示成</m:t>
                    </m:r>
                    <m:r>
                      <m:t xml:space="preserve"> </m:t>
                    </m:r>
                    <m:r>
                      <m:t xml:space="preserve">Δ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或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7164360" y="5589720"/>
                <a:ext cx="1244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方程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627280" y="0"/>
                <a:ext cx="29797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874800" y="620640"/>
                <a:ext cx="52704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通常表示成</m:t>
                    </m:r>
                    <m:r>
                      <m:t xml:space="preserve"> </m:t>
                    </m:r>
                    <m:r>
                      <m:t xml:space="preserve">Δu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或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659640" y="0"/>
                <a:ext cx="248436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042920" y="1484280"/>
                <a:ext cx="5829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拉普拉斯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apac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引进一个微分算子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403280" y="2133720"/>
                <a:ext cx="289584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500720" y="2421000"/>
                <a:ext cx="3009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——拉普拉斯算子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187280" y="3357720"/>
                <a:ext cx="49532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读作“拉普拉逊”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aplacia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042920" y="4076640"/>
                <a:ext cx="69595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哈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米尔顿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amilton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引进一个失性微分算子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258920" y="4797360"/>
                <a:ext cx="31496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limUpp>
                      <m:e>
                        <m:r>
                          <m:t xml:space="preserve">k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475160" y="5151600"/>
                <a:ext cx="30607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——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哈米尔顿算子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0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332000" y="476280"/>
                <a:ext cx="63370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现在考察空间某物体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内的热传导问题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403280" y="1197000"/>
                <a:ext cx="5550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由于热的传播遵循傅立叶实验定律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332000" y="1844640"/>
                <a:ext cx="707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物体在无穷小时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内流过无穷小面积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 </m:t>
                    </m:r>
                    <m:r>
                      <m:t xml:space="preserve">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68360" y="2421000"/>
                <a:ext cx="81360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热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与物体温度沿曲面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法线方向的方向导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68360" y="2997360"/>
                <a:ext cx="20826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成正比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979640" y="3860640"/>
                <a:ext cx="35179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S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877080" y="4076640"/>
                <a:ext cx="419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332000" y="4941720"/>
                <a:ext cx="71625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中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为物体在点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处的热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11280" y="5589720"/>
                <a:ext cx="2654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导系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热导率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348000" y="5373720"/>
                <a:ext cx="4978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n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为曲面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沿热流方向的法线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6" name=""/>
          <p:cNvGraphicFramePr/>
          <p:nvPr/>
        </p:nvGraphicFramePr>
        <p:xfrm>
          <a:off x="539640" y="907920"/>
          <a:ext cx="8136000" cy="574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907920"/>
                    <a:ext cx="8136000" cy="5740560"/>
                  </a:xfrm>
                  <a:prstGeom prst="rect">
                    <a:avLst/>
                  </a:prstGeom>
                  <a:ln w="9360">
                    <a:solidFill>
                      <a:srgbClr val="ff669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258920" y="404640"/>
                <a:ext cx="7035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记号</m:t>
                    </m:r>
                    <m:r>
                      <m:t xml:space="preserve"> </m:t>
                    </m:r>
                    <m:r>
                      <m:t xml:space="preserve">∇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读作“纳普拉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bl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”或“代尔</m:t>
                    </m:r>
                    <m:r>
                      <m:rPr>
                        <m:lit/>
                        <m:nor/>
                      </m:rPr>
                      <m:t xml:space="preserve">Del</m:t>
                    </m:r>
                    <m:r>
                      <m:t xml:space="preserve">”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258920" y="1125360"/>
                <a:ext cx="59054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在运算中具有矢量和微分的双重性质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7164360" y="1125360"/>
                <a:ext cx="1117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运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463680" y="1773360"/>
                <a:ext cx="12697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规则是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403280" y="2349360"/>
                <a:ext cx="38988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(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limUpp>
                      <m:e>
                        <m:r>
                          <m:t xml:space="preserve">k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)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908000" y="3429000"/>
                <a:ext cx="28958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limUpp>
                      <m:e>
                        <m:r>
                          <m:t xml:space="preserve">k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932360" y="3645000"/>
                <a:ext cx="12193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rad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258920" y="4581360"/>
                <a:ext cx="683244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(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limUpp>
                      <m:e>
                        <m:r>
                          <m:t xml:space="preserve">k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limUpp>
                      <m:e>
                        <m:r>
                          <m:t xml:space="preserve">k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908000" y="5589720"/>
                <a:ext cx="271800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500"/>
                            </p:stCondLst>
                            <p:childTnLst>
                              <p:par>
                                <p:cTn id="9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95280" y="134136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复变函数论中知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解析函数的实部和虚部分别满足二维拉普拉斯方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5280" y="2421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拉普拉斯方程和泊松方程不仅描述稳定状态下温度的分布规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且也能描述如稳定浓度分布等物理现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8360" y="371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由于它们描述的是稳定或平衡现象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其描述的物理量与时间无关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所以定解条件只有边界条件而无初始条件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只要将热传导方程的边界条件出现的函数看作与时间无关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就可得拉普拉斯方程或泊松方程相应的三类边界条件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619280" y="404640"/>
                <a:ext cx="2933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∇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∇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Δ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788000" y="476280"/>
                <a:ext cx="2031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为调和量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547640" y="765000"/>
                <a:ext cx="66582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负号表明热量总是从温度高的区域向温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755640" y="1413000"/>
                <a:ext cx="2349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低的区域传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651640" y="0"/>
                <a:ext cx="3348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Sdt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476360" y="2060640"/>
                <a:ext cx="6835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设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表示物体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内在位置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84360" y="2708280"/>
                <a:ext cx="25430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及时刻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温度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476360" y="3284640"/>
                <a:ext cx="4851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为了导出温度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所满足的方程</m:t>
                    </m:r>
                    <m:r>
                      <m:t xml:space="preserve"> 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372360" y="3284640"/>
                <a:ext cx="18032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在物体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t xml:space="preserve">内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" name=""/>
          <p:cNvGrpSpPr/>
          <p:nvPr/>
        </p:nvGrpSpPr>
        <p:grpSpPr>
          <a:xfrm>
            <a:off x="755640" y="3860640"/>
            <a:ext cx="2633760" cy="393840"/>
            <a:chOff x="755640" y="3860640"/>
            <a:chExt cx="2633760" cy="393840"/>
          </a:xfrm>
        </p:grpSpPr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755640" y="3860640"/>
                  <a:ext cx="219708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任取一闭曲面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2987640" y="3932280"/>
                  <a:ext cx="330480" cy="27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3275280" y="4076640"/>
                  <a:ext cx="114120" cy="17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419640" y="3860640"/>
                <a:ext cx="3759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它所包围的区域记作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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7236000" y="3860640"/>
                <a:ext cx="11048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则从时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1" name=""/>
          <p:cNvGrpSpPr/>
          <p:nvPr/>
        </p:nvGrpSpPr>
        <p:grpSpPr>
          <a:xfrm>
            <a:off x="755640" y="4437000"/>
            <a:ext cx="7345440" cy="432000"/>
            <a:chOff x="755640" y="4437000"/>
            <a:chExt cx="7345440" cy="432000"/>
          </a:xfrm>
        </p:grpSpPr>
        <p:grpSp>
          <p:nvGrpSpPr>
            <p:cNvPr id="72" name=""/>
            <p:cNvGrpSpPr/>
            <p:nvPr/>
          </p:nvGrpSpPr>
          <p:grpSpPr>
            <a:xfrm>
              <a:off x="755640" y="4437000"/>
              <a:ext cx="4002120" cy="432000"/>
              <a:chOff x="755640" y="4437000"/>
              <a:chExt cx="4002120" cy="432000"/>
            </a:xfrm>
          </p:grpSpPr>
          <mc:AlternateContent>
            <mc:Choice xmlns:a14="http://schemas.microsoft.com/office/drawing/2010/main" Requires="a14">
              <p:sp>
                <p:nvSpPr>
                  <p:cNvPr id="73" name=""/>
                  <p:cNvSpPr txBox="1"/>
                  <p:nvPr/>
                </p:nvSpPr>
                <p:spPr>
                  <a:xfrm>
                    <a:off x="4427640" y="4508640"/>
                    <a:ext cx="330120" cy="277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4" name=""/>
                  <p:cNvSpPr txBox="1"/>
                  <p:nvPr/>
                </p:nvSpPr>
                <p:spPr>
                  <a:xfrm>
                    <a:off x="755640" y="4437000"/>
                    <a:ext cx="3670200" cy="432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刻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到时刻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经过曲面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4672080" y="4437000"/>
                  <a:ext cx="342900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流入区域</m:t>
                      </m:r>
                      <m:r>
                        <m:t xml:space="preserve"> 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的热量为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" name=""/>
          <p:cNvGrpSpPr/>
          <p:nvPr/>
        </p:nvGrpSpPr>
        <p:grpSpPr>
          <a:xfrm>
            <a:off x="2151000" y="5084640"/>
            <a:ext cx="3098880" cy="1006560"/>
            <a:chOff x="2151000" y="5084640"/>
            <a:chExt cx="3098880" cy="1006560"/>
          </a:xfrm>
        </p:grpSpPr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2151000" y="5084640"/>
                  <a:ext cx="3098880" cy="100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[</m:t>
                          </m:r>
                          <m:nary>
                            <m:naryPr>
                              <m:chr m:val="∬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k</m:t>
                              </m:r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u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dS</m:t>
                              </m:r>
                              <m:r>
                                <m:t xml:space="preserve">]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3490920" y="5803920"/>
                  <a:ext cx="20628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804000" y="5373720"/>
                <a:ext cx="4572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79280" y="765000"/>
                <a:ext cx="8675640" cy="184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当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gradu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时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物体温度沿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方向增加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减少</m:t>
                        </m:r>
                        <m:r>
                          <m:t xml:space="preserve">)</m:t>
                        </m:r>
                        <m:r>
                          <m:t xml:space="preserve">，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而热流方向却与此相反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故沿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方向通过曲面的热量应为</m:t>
                        </m:r>
                      </m:e>
                      <m:e>
                        <m:r>
                          <m:t xml:space="preserve">负</m:t>
                        </m:r>
                        <m:r>
                          <m:t xml:space="preserve">(</m:t>
                        </m:r>
                        <m:r>
                          <m:t xml:space="preserve">正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39640" y="4508640"/>
                <a:ext cx="546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恒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7956720" y="5877000"/>
                <a:ext cx="4572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116000" y="4508640"/>
                <a:ext cx="2438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成立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732720" y="3933720"/>
                <a:ext cx="17780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由于热量守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5" name=""/>
          <p:cNvGrpSpPr/>
          <p:nvPr/>
        </p:nvGrpSpPr>
        <p:grpSpPr>
          <a:xfrm>
            <a:off x="6046920" y="5013360"/>
            <a:ext cx="2654280" cy="1008000"/>
            <a:chOff x="6046920" y="5013360"/>
            <a:chExt cx="2654280" cy="1008000"/>
          </a:xfrm>
        </p:grpSpPr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6046920" y="5013360"/>
                  <a:ext cx="2654280" cy="100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[</m:t>
                          </m:r>
                          <m:nary>
                            <m:naryPr>
                              <m:chr m:val="∬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k</m:t>
                              </m:r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u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dS</m:t>
                              </m:r>
                              <m:r>
                                <m:t xml:space="preserve">]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6948360" y="5734080"/>
                  <a:ext cx="20664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332000" y="3933720"/>
                <a:ext cx="5316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如果所考虑的物体内部没有热源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077840" y="4292640"/>
                <a:ext cx="80661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系统从外界吸收的热量等于系统内能的增量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无热源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热力学第一定律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338120" y="404640"/>
                <a:ext cx="71121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流入的热量使区域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内部的温度发生了变化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11280" y="981000"/>
                <a:ext cx="74293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在时间间隔</m:t>
                    </m:r>
                    <m:r>
                      <m:t xml:space="preserve"> 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内物体温度从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变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84360" y="1557360"/>
                <a:ext cx="44323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所需要的热量为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84280" y="2205000"/>
                <a:ext cx="82040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Ω</m:t>
                        </m:r>
                      </m:sub>
                      <m:sup/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172360" y="2924280"/>
                <a:ext cx="4572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39640" y="3284640"/>
                <a:ext cx="334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中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为物体的比热</m:t>
                    </m:r>
                    <m:r>
                      <m:t xml:space="preserve"> 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924360" y="3284640"/>
                <a:ext cx="2641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为物体的密度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95280" y="3141720"/>
                <a:ext cx="8475840" cy="34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热容：在许多情况下，系统和外界之间的热传递会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引起系统本身温度的变化，这一温度的变化和热传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递的关系用热容表示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一个系统温度升高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时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果它所吸收的热量为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则系统的热容定义为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如果系统的质量为单位质量时，它的热容叫比热，用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表示，从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93720" y="5157720"/>
                <a:ext cx="5207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Ω</m:t>
                        </m:r>
                      </m:sub>
                      <m:sup/>
                      <m:e>
                        <m:r>
                          <m:t xml:space="preserve">cρ</m:t>
                        </m:r>
                        <m:r>
                          <m:t xml:space="preserve">[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258920" y="620640"/>
                <a:ext cx="72896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设函数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关于变量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具有二阶连续偏导数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39640" y="1341360"/>
                <a:ext cx="51436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关于变量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具有一阶连续偏导数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724360" y="1341360"/>
                <a:ext cx="26672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利用</m:t>
                    </m:r>
                    <m:r>
                      <m:t xml:space="preserve"> </m:t>
                    </m:r>
                    <m:r>
                      <m:t xml:space="preserve">奥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高公式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39640" y="1989000"/>
                <a:ext cx="16765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可化为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26920" y="2565360"/>
                <a:ext cx="75186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nary>
                              <m:naryPr>
                                <m:chr m:val="∭"/>
                                <m:supHide m:val="1"/>
                              </m:naryPr>
                              <m:sub>
                                <m:r>
                                  <m:t xml:space="preserve">Ω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t xml:space="preserve">(</m:t>
                                    </m:r>
                                    <m:r>
                                      <m:t xml:space="preserve">k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t xml:space="preserve">)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y</m:t>
                                        </m:r>
                                      </m:den>
                                    </m:f>
                                    <m:r>
                                      <m:t xml:space="preserve">(</m:t>
                                    </m:r>
                                    <m:r>
                                      <m:t xml:space="preserve">k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y</m:t>
                                        </m:r>
                                      </m:den>
                                    </m:f>
                                    <m:r>
                                      <m:t xml:space="preserve">)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  <m:r>
                                      <m:t xml:space="preserve">(</m:t>
                                    </m:r>
                                    <m:r>
                                      <m:t xml:space="preserve">k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  <m:r>
                                      <m:t xml:space="preserve">)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39640" y="4005360"/>
                <a:ext cx="19814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而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可化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900000" y="4869000"/>
                <a:ext cx="35434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Ω</m:t>
                        </m:r>
                      </m:sub>
                      <m:sup/>
                      <m:e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72000" y="4797360"/>
                <a:ext cx="31114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∭"/>
                                <m:supHide m:val="1"/>
                              </m:naryPr>
                              <m:sub>
                                <m:r>
                                  <m:t xml:space="preserve">Ω</m:t>
                                </m:r>
                              </m:sub>
                              <m:sup/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ρ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7" name=""/>
          <p:cNvGrpSpPr/>
          <p:nvPr/>
        </p:nvGrpSpPr>
        <p:grpSpPr>
          <a:xfrm>
            <a:off x="511200" y="0"/>
            <a:ext cx="2001960" cy="620640"/>
            <a:chOff x="511200" y="0"/>
            <a:chExt cx="2001960" cy="620640"/>
          </a:xfrm>
        </p:grpSpPr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511200" y="0"/>
                  <a:ext cx="2001960" cy="61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[</m:t>
                          </m:r>
                          <m:nary>
                            <m:naryPr>
                              <m:chr m:val="∬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k</m:t>
                              </m:r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u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dS</m:t>
                              </m:r>
                              <m:r>
                                <m:t xml:space="preserve">]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1376640" y="443520"/>
                  <a:ext cx="133200" cy="17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627280" y="0"/>
                <a:ext cx="6516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Ω</m:t>
                        </m:r>
                      </m:sub>
                      <m:sup/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971640" y="333360"/>
                <a:ext cx="2844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因此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式可化为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20600" y="1125360"/>
                <a:ext cx="9016920" cy="10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nary>
                              <m:naryPr>
                                <m:chr m:val="∭"/>
                                <m:supHide m:val="1"/>
                              </m:naryPr>
                              <m:sub>
                                <m:r>
                                  <m:t xml:space="preserve">Ω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c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ρ</m:t>
                                        </m:r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t xml:space="preserve">u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t xml:space="preserve">t</m:t>
                                            </m:r>
                                          </m:den>
                                        </m:f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t xml:space="preserve">(</m:t>
                                    </m:r>
                                    <m:r>
                                      <m:t xml:space="preserve">k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y</m:t>
                                        </m:r>
                                      </m:den>
                                    </m:f>
                                    <m:r>
                                      <m:t xml:space="preserve">(</m:t>
                                    </m:r>
                                    <m:r>
                                      <m:t xml:space="preserve">k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y</m:t>
                                        </m:r>
                                      </m:den>
                                    </m:f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  <m:r>
                                      <m:t xml:space="preserve">(</m:t>
                                    </m:r>
                                    <m:r>
                                      <m:t xml:space="preserve">k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vd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042920" y="2637000"/>
                <a:ext cx="490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由于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与区域都是任意取的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012000" y="2637000"/>
                <a:ext cx="21841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并且被积函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95280" y="3429000"/>
                <a:ext cx="1612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是连续的</m:t>
                    </m:r>
                    <m:r>
                      <m:t xml:space="preserve"> 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124000" y="3429000"/>
                <a:ext cx="12193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于是得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116000" y="4365720"/>
                <a:ext cx="5816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ρ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(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(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596360" y="4653000"/>
                <a:ext cx="4572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378240" y="0"/>
                <a:ext cx="57657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ρ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(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(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403280" y="981000"/>
                <a:ext cx="72392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式称为非均匀的各向同性体的热传导方程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476360" y="1628640"/>
                <a:ext cx="30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如果物体是均匀的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43280" y="1628640"/>
                <a:ext cx="3772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此时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及</m:t>
                    </m:r>
                    <m:r>
                      <m:t xml:space="preserve"> </m:t>
                    </m:r>
                    <m:r>
                      <m:t xml:space="preserve">ρ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均为常数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11280" y="2133720"/>
                <a:ext cx="19047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记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56000" y="2349360"/>
                <a:ext cx="16254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则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式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763640" y="3284640"/>
                <a:ext cx="343692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7093080" y="3500280"/>
                <a:ext cx="4572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284720" y="4437000"/>
                <a:ext cx="18288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热传导方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157800" y="4437000"/>
                <a:ext cx="1511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无热源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116000" y="5157720"/>
                <a:ext cx="4824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如果所考察的物体内部有热源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012000" y="5157720"/>
                <a:ext cx="2735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如物体内通有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39640" y="5734080"/>
                <a:ext cx="4178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流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或有化学反应等情况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16360" y="5734080"/>
                <a:ext cx="18162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设热源密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588000" y="5734080"/>
                <a:ext cx="1917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单位时间内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55640" y="1263600"/>
                <a:ext cx="6324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单位体积中所产生的热量</m:t>
                    </m:r>
                    <m:r>
                      <m:t xml:space="preserve">)</m:t>
                    </m:r>
                    <m:r>
                      <m:t xml:space="preserve">为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093080" y="1263600"/>
                <a:ext cx="1447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则在时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755640" y="1911240"/>
                <a:ext cx="597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间隔</m:t>
                    </m:r>
                    <m:r>
                      <m:t xml:space="preserve"> 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中区域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内所产生的热量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35280" y="2558880"/>
                <a:ext cx="42289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nary>
                          <m:naryPr>
                            <m:chr m:val="∭"/>
                            <m:supHide m:val="1"/>
                          </m:naryPr>
                          <m:sub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006960" y="0"/>
                <a:ext cx="3137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v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619280" y="3567240"/>
                <a:ext cx="2679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由于热量要平衡</m:t>
                    </m:r>
                    <m:r>
                      <m:t xml:space="preserve"> 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284720" y="3567240"/>
                <a:ext cx="42544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于是在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式右端应加上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826920" y="4143240"/>
                <a:ext cx="1257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这一项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124000" y="4143240"/>
                <a:ext cx="5257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以相应于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式的热传导方程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619280" y="4863960"/>
                <a:ext cx="51958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7596360" y="5079960"/>
                <a:ext cx="4572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900000" y="6159600"/>
                <a:ext cx="7239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中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908000" y="5943600"/>
                <a:ext cx="3861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39640" y="404640"/>
                <a:ext cx="7058160" cy="8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Ω</m:t>
                        </m:r>
                      </m:sub>
                      <m:sup/>
                      <m:e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[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[</m:t>
                        </m:r>
                        <m:nary>
                          <m:naryPr>
                            <m:chr m:val="∬"/>
                            <m:supHide m:val="1"/>
                          </m:naryPr>
                          <m:sub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sub>
                          <m:sup/>
                          <m:e>
                            <m:r>
                              <m:t xml:space="preserve">k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79600" y="189000"/>
                <a:ext cx="330516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033800" y="189000"/>
                <a:ext cx="49467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187280" y="1197000"/>
                <a:ext cx="4724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方程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称为齐次热传导方程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940360" y="1197000"/>
                <a:ext cx="2755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方程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称为非齐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95280" y="1773360"/>
                <a:ext cx="21844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次热传导方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627280" y="1773360"/>
                <a:ext cx="3022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三维热传导方程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187280" y="2421000"/>
                <a:ext cx="26384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一维热传导方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400040" y="2997360"/>
                <a:ext cx="32133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659640" y="3357720"/>
                <a:ext cx="4572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187280" y="4221000"/>
                <a:ext cx="26384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二维热传导方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332000" y="4941720"/>
                <a:ext cx="4762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659640" y="5229360"/>
                <a:ext cx="4572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5:30:28Z</dcterms:created>
  <dc:creator>user</dc:creator>
  <dc:description/>
  <dc:language>en-US</dc:language>
  <cp:lastModifiedBy>FtpDown</cp:lastModifiedBy>
  <cp:lastPrinted>1999-09-15T08:06:35Z</cp:lastPrinted>
  <dcterms:modified xsi:type="dcterms:W3CDTF">2016-04-18T16:14:15Z</dcterms:modified>
  <cp:revision>160</cp:revision>
  <dc:subject/>
  <dc:title>幻灯片 1</dc:title>
</cp:coreProperties>
</file>